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274A03-07D8-48AA-A045-8E6B0E0E27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2889BB-588B-4F44-97AA-797B9EB512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B92E0A-E6A2-48B7-8CE8-2810852131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9178D4-DB96-4252-8D04-EAB0BD65B1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C6602BC-1A59-47CC-A7B0-DDD01DA0DFE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44E18D-7AEE-4ABA-B11C-EBE6B60008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8C977D-4D04-48D0-ACC7-EB5AC9D4CD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58D6AE-EAD3-47B9-9C8F-C739E99772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7F5C67-C906-46B4-9BF5-2F0BC94790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91FB1A-0AC5-48F9-BD18-63937EBFC8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BA2457-A0CF-42F5-AC61-5AB8047682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7FFCF3-36F2-45FC-A8EE-83726F84CF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6CD295-6DB2-4451-9CBC-2F306358B9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64BC33-7482-4C69-9E8A-16EB0896AB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3FF336-6C63-41DF-B133-7A14C696FC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C4DEF52-F656-409E-8741-D5DB5A44525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20F21EA-C3CB-489A-AF74-0DC479B2EF5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8BDD70-DB64-4F9F-8B9F-6539758A75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AD7E42-0A25-4C37-942D-0ED989FA12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6FE1A3-76AB-4F38-83DD-EA708C1FBF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B0C37A-7DD1-4712-A119-EDED874517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94AE57-8188-47AC-AE95-7BCE08728B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A2AA1F-1FBC-4EAB-9AD2-65B832A056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A5459C-C33D-4465-82D9-ED92F4ECCC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1C50A2-F14F-4B1F-B33D-E91C974A177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EE4763-34C1-4E95-8E70-C4855404BF3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11B6352-B32C-471F-B2A6-B37F54F6A0B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C99E81F-E776-43D0-9C13-6819EC981158}"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92264E-E24D-455E-A019-AB8AC243D74E}"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11B208-BA36-444F-8D2C-56D487C24281}"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BE9B13-A8CC-4890-A49D-FE732EF41589}"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A2C123-9F34-466A-B997-A9EB53B67C1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EA5905-BFD7-46F8-8EF3-6B1756240AEB}"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25505E-D918-4138-AA1B-41C12C70530D}"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02390A-EA97-4B95-96A1-7F09159136D8}"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713018-78CD-415E-909C-9FA8780771D1}"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2BDBCE-B6AE-48F7-8941-A0A1694258CA}"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D53447-2369-49DA-9AC9-9176373055D5}"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DDAD13-E6FA-4E13-9A13-A1A47613B612}"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6C4945-4949-4E4F-8364-028334A258D1}"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C76150-595D-4E11-BDDF-778884B2F49F}"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6B455A-6F85-4DD2-8518-F6DBF4D24CFB}"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B34CCF-F715-44D4-B117-1D26D01DDAF9}"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F9E89C-5F69-4BDA-9B65-8B46884FD138}"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2631AE-CAB2-46F2-A67A-345F249DBA92}"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24D247-98F2-4EA6-A614-58AEF9BF6D49}"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D77914-DD35-4B77-8834-56834D8D64F1}"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7DCC56-7C5F-4C79-88C0-906D4D640407}"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174965-3AF8-4F92-A3E3-73DE775DF0EF}"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4D9BC1-E8CF-4370-842E-1FAC249174DF}"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06C883-C165-4096-8AF5-7C47AE660444}"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D37D95-592F-43B1-BCE3-B32E2998EAD9}"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748DBE-0782-4837-A0C6-5B44F20EFF27}"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469CA15-D1A8-457A-9035-5030672888F0}"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ED7830-D1E6-420F-85A5-B3C1547E4931}"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58A65D-281C-4A0F-84AD-60827BCAAF88}"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73F47F-E4D2-4843-BB00-2386E5CDFBA4}"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BCE8EA-B85F-4BE2-A985-3957B4824CCC}"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B7BF95-4508-4604-8A40-B8773200A59B}"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DFC6B7-7DB2-4104-9EBC-558ABF8CB05D}"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EFB025-0992-496F-9A2E-098A0FD3D64A}"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EEF482-422F-42F4-A445-D20724C287A5}"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FF572A-BE23-4C67-83B3-A9F09038E065}"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3A43C0-1044-4850-8CBA-04282EBC3F6D}"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B09B68-0339-414D-B407-D0877E0C4C1A}"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E4EE48-5218-464C-85FB-39F51BA4D1AE}"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495B63-FE16-43BA-8E4F-B1F54B7841F1}"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7B3486-EB5F-49F9-B5D5-CA28CD8FD858}"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ABB983-8994-44BC-AECE-A4749B894B28}"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A1EF16-D032-4406-80BC-ADD3EDD598BB}"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33A311-582A-4864-8620-7F4E2C1B1F1B}"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9A0337-5569-44AC-B23F-08BC13F25073}"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BCB3AD-D90D-4674-99CE-DE7510001DBF}"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0E5E81-A26B-4458-99BA-66C5BB4AA724}"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CDAA97B-4A26-498C-8E8A-66C7F46C9A86}"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F3F985-9BBF-4BB4-BA19-2E68607A53AA}"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512286-2EBC-4DDA-9B02-B235C09715AF}"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C8381C5-6B6D-4A23-9373-FCA60F79918F}"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6FD47D-A307-4FE5-A525-89585C038F28}"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0006D3-3EAE-4F67-A2DD-AF1752E30525}"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B51FFA-1F41-471F-B5F4-569CB1034F01}"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0A5E09-A153-44F9-AD4D-83054EB35C84}"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27ADCE-584B-4BCB-83D4-3597825816DE}"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879CA3-DC54-48A4-AE54-5DF433AB9970}"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08DC9B-E561-4913-BC61-3033FF3736D2}"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B77D2D3-EBCE-42A1-BBC1-5A17EF84B023}"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372401-4ED5-4B05-BB8E-CFD910D44B00}"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E2592E-561F-464F-B3E2-6354E1099567}"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6D29B9-1E50-4FCF-99A7-D6173F51087E}"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40C2C5-DBB5-4BB6-9C91-E2F7A29F342C}"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2805AE-8EF0-4010-BC39-E705BDCF6DDF}"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0F5C961-2E5A-4180-B8F2-1FF70D6341F2}"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D80E46-2916-47F7-B79F-BDD5697453BF}"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3DD3D0-B146-4EBA-8893-EFC9C554F1CB}"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E82370-2683-4758-9BB7-F02EC08B7F81}"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5A07AB-2C36-4595-AF54-76B969094606}"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612BAAF-129C-4A21-B8E7-18D0C9A582AF}"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4DE9EA-7339-4E3E-8DCE-2279E4AC6D88}"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9F4AD8-602B-4679-8347-17325391574B}"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D851F1-A0C8-4F98-9D74-60A08C721497}"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E9BF07-4537-4A1C-96C9-02B8777BB373}"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87654F-1368-4556-9C09-484833F233A4}"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07FB07-C0C6-49DE-B190-F448BDE92847}"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FBE5FB4-2336-4014-B4A7-8700083D0475}"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1A028B-2AF0-4A59-BD95-AC795A3DDDBF}"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4723B5-A406-4CEF-8AE0-1D48C7CA0039}"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1184BD-9558-4EF2-AF64-FC2DF13D0071}"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C91F244-D270-4B19-9A96-19366AAA556A}"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AB47C1-1381-4BAA-AF72-F26C07B5C5B4}"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59DFD21-2F95-4C70-A890-A8BF6A63E345}"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B4785F-8351-4598-9208-7465EB0E80BD}"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3135BF-F6BA-4B59-9385-BD3398FCE381}"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432B2A-1566-4473-BC83-B3966B5146CA}"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CF40ED-1FA5-4B7A-9492-C2622714D53E}"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444ADE-1F3B-4D45-A451-8A0A80F62DCD}"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657F2C-2CEC-4969-8459-5BFD2879BC69}"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0CC690-1CC9-4E25-B508-D6541B7E94B7}"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3581A0-1B1A-4161-836A-3CE4C73FF2AD}"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98A87B-29FA-4E7D-A87A-55E2A1925323}"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3BA579-1A0D-4A30-BE9A-79D0C4E6CDE9}"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3DFA09-6922-41B7-8D58-2925F68EAD4F}"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AB3DF5-1618-4063-B6A6-FFBAF8124B45}"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13102E-2DE9-42A8-83C2-67E702627D82}"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280F1B-D3BF-454F-968E-6BA00D8B2C86}"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82D52D-C850-4F33-8678-BA7973BC31E1}"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59241D3-9CAB-400D-AD5B-62B0C21932F4}"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C119FC-1484-47D3-977B-3AABFACE9BC9}"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EFDFD1-8749-4709-81B1-9CE7E851E9E4}"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A04ADE-BFFF-4F65-B213-A0CA77874E46}"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AF6C8C-FCD5-43F0-9EE9-8AC6F3B03A7E}"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B59AAB-A6F8-4651-B5F9-A883C4D246A0}"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C7DDFF-4379-4A9D-9C51-72151E9A1ECF}"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6E1ED1-06CC-4665-8396-C71447643309}"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B287FB-185B-47AB-A152-154D9DCEA52D}"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33496C-EDB6-4B3F-AE0E-813C413E7037}"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021B58-3145-44E9-8118-D16A9E08842B}"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0AC297-1CA6-4E31-8F3B-43C42C8FD396}"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DEB3B9-4101-449C-B04C-01C3EAD3BE1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4DC831-AC6F-4E53-9608-B881AF79914B}"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FEE8E7-2654-44A3-BEF5-475A51A14F8E}"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AC655C-0172-41CE-B101-F8AE022ABFB5}"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A447EF-5B8B-4B4C-ACAB-FB7F43A9669A}"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AB30DB-798C-4EF1-B15C-AE16EAE6EF0E}"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F070ED-1885-4D27-968E-78BF154CFB25}"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234386-B42E-4A5D-8AED-E7F7F21E43E4}"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9089EB-B159-4909-A13C-EC24206445D2}"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520F2E-DDB9-4F68-B41D-D8F1599BB138}"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A0C1CE-8E19-4F61-A010-E091CA6D9738}"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406A8F-84EB-44A5-86C2-FB2D17549D4D}"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BDF5E9-8496-4392-B0B6-A3FBC27BE3BC}"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5376A7-5E31-4BA7-8F5E-1796E8205ED9}"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B7EF83-03D1-4D7F-A723-68E0FDAF9D10}"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5A9B3A-6D96-4FDA-B937-2DCC298BF034}"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51E3481-B621-4E28-927D-5E6C5315B103}"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1E1F46-331B-49FD-AA4F-13295B5144B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5B4804-AD57-450E-B26C-740938FD191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8B3572-B44D-4B83-A4F0-9649D2D6F89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E844BB-F448-4C48-8192-94CAB0E0987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727CBA-4E64-47B8-B17E-F12B788A2C8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650EAE-E15D-4AF0-ADE5-FEEC609E65F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B5D54EB-6E0B-4947-B979-107BFA6143E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F17F53-CB2C-4674-A352-C527B1FA93D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EFEADD-61B5-4B71-AD51-4723F83ED25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64155D-1003-4CF5-85D2-7BE98311921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4BF7FE-BB2C-47EB-9597-C343FD604F2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61724C-C895-4318-B312-ACAAE5B32D4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7A9FFF-02B2-4824-902E-3C4163799E8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F413B3-5DBB-4135-8CEC-DBB576AE79F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A73ABF-7A94-4430-B4F5-1672EC2636F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4E9B10-3C15-4A65-88A8-45E70F403BB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77D0E2-5D82-4DEC-9728-0FB9F0A5598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B59562-2377-4C60-AA53-36A62D4528C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07F07C-3240-40B0-944D-5935D770BD7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033F70-8A0C-4F09-9398-0250A4375A2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75194B-0D7D-4BEF-994F-ECE65F628F2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D959E8-ADAF-4FDF-BC7D-4DDBCD04511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1BC26A-6A8C-4A8C-AA01-AA0E2A92A76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1E318E-7A5F-4A6B-8013-06FEDA157B4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7D3CD1-339D-4CC2-8BC0-AAD6D3A4CC9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C13605-689B-4502-9CBF-EA4E2C02516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1A612F-1F30-4F24-B507-6995AFAD2AC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DF7A74-5B6C-4DB9-B931-9EECF0FF7B4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5B1E55-2023-41B3-B22C-FF3164315B8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1430A4-770D-4750-BA9A-C1F7565572A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6436CD-4B29-47B1-99B6-2A1EC934AB3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86CCED-DFBE-4972-A9FD-D5A12BC10BE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C271FF-D9E2-4722-B4A2-64BC4E970B3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B38928-B264-48AD-A2CB-9FECF6716C0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3CE39C-9779-41FE-B7EE-73A0EF95C27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9EF2A6-A507-42BC-AE37-46BB55D61CF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9AE75A-A69B-418D-8D7F-2E8ABF9E7A2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F44379-19F0-474D-91DA-4C9F062A0792}"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079AFF-D8ED-4873-BBFD-677DF1C819E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58701A-7D68-4776-A5AB-F19FDDFEC48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B70FB7-0253-4E30-8580-7CF5393B042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AFF1CC-964E-4478-9361-5B558ACA1A2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51356D-4019-448A-B41D-B677B2C91B08}"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EB9998-914C-4827-8EF4-7CCEFE559265}"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DBAC4C-F006-4B3C-A036-98A45A2E088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AA4A91-F567-4662-93DC-0B7339CBCF9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859BD1-906D-4C26-AAB5-D3F5BBCF9E1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B2FD157-AA9A-40EC-84DB-F963973A2BF2}"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C30142-37A9-4E46-AB2F-F53E9973E13B}"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A9C558-6A1B-44CC-BEA7-C3DC8A535797}"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0B22D3-1C74-4155-A9A0-591DB785BA6C}"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33B220-001E-45D9-97B5-6754BE321C1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B9BCD1-6C35-46FC-BF1D-1AECF5CF6B3C}"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E87CDF-A982-4C63-9A64-A9FB66EA0136}"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CFD3CB-7CDA-4666-9740-BA7FCBB1E103}"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6278CE-BD7A-4016-83D0-97D9131E7C7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B1F7CC8-095D-4B86-910F-00CF37C98CD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2AC756-E18B-409A-81DB-752AF3475ED7}"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B0AAB3-3CE1-495D-AD76-04685B915066}"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D72854-185B-4AD9-AFDA-1390510961C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69441A-47FC-4A5D-A248-CAF7C6B66A4C}"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C28328-87A1-433D-A8BF-6A0806ED8F98}"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052386-6CAF-43AE-A527-E3077555EC7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D5359C-897C-4074-9F5D-CDC0E441AECE}"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F438EC-85C1-46A6-9CE4-09906006C339}"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3C24E4-8D7F-499A-895F-B52B6402B1AE}"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FF3B14-84A9-4D44-90E8-A50080C50AEB}"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2D8348-1C95-432E-B802-9739CD3A6D68}"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94292E-5BD2-4B4A-AB11-AF738EBB8C0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DE055F-1F09-4969-9F02-0BCB58A86BF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032437-C1BC-4EFE-B7EF-BDFC9DD4CC51}"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47D6D17-052E-4340-AB01-D06B69D82C54}"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58D2D2-D590-4B4D-906F-C6211F8ED93D}"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A38390-46A0-403A-B27A-8A7A07CD6D21}"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3A4F1F-FC3B-489A-B197-BA1EAC6A9355}"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3EDD1D-B0A7-4336-A8CC-567DECB06EA9}"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7828E9-40E1-4730-810B-970357FDE3EB}"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9CCF0E-15B0-4316-8302-23098C04C38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2A6D38-BDE4-4F26-8BDB-26F39C7E261D}"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B4C273-E1BB-4CA2-8590-19DEB64CB78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B28CCD-6339-4887-BD57-61BF8FC849FD}"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EFC27F-1201-48A3-9409-7B069F2C22C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82447A-3CE6-45D4-AA7A-B406F6A3C3F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39EA2B-D08B-4266-AA37-305672D393D1}"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447408-1376-4A5B-A374-2790F4DCA87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