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E70-EEE9-4A7B-86EC-ACAED20D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964-08C3-4200-83AE-700FD652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D87-B7FE-41FE-9590-4298842C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389-C6A9-4DB1-862C-8DE1CC9A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811-2558-40DA-9C54-3452D4F8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880-6FFD-4F8D-9A65-0DA46792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727-2DFA-4BAA-BF97-205B251C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B9E-FB03-49B2-9EC4-B6758FE6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C2A-749F-4F46-AEB0-124CF030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0A2-1ECD-45FC-9624-F0EC137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A48-3EF1-4698-8590-2595BD60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6EB-0ADC-468D-A6EF-1890B07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AF1B-DA77-4E5F-964A-D84CF0CB6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027080"/>
            <a:ext cx="8303400" cy="4763880"/>
            <a:chOff x="457200" y="1027080"/>
            <a:chExt cx="8303400" cy="4763880"/>
          </a:xfrm>
        </p:grpSpPr>
        <p:sp>
          <p:nvSpPr>
            <p:cNvPr id="43" name=""/>
            <p:cNvSpPr/>
            <p:nvPr/>
          </p:nvSpPr>
          <p:spPr>
            <a:xfrm>
              <a:off x="3304800" y="5180040"/>
              <a:ext cx="5455800" cy="610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5" idx="2"/>
              <a:endCxn id="46" idx="1"/>
            </p:cNvCxnSpPr>
            <p:nvPr/>
          </p:nvCxnSpPr>
          <p:spPr>
            <a:xfrm flipH="1" rot="16200000">
              <a:off x="2306880" y="1401480"/>
              <a:ext cx="334800" cy="16617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7" name=""/>
            <p:cNvSpPr/>
            <p:nvPr/>
          </p:nvSpPr>
          <p:spPr>
            <a:xfrm>
              <a:off x="3304800" y="4332240"/>
              <a:ext cx="5455800" cy="610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4800" y="2806920"/>
              <a:ext cx="5455800" cy="142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Graphics IO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-level forma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CGM, EMF, PDF and SW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04800" y="2094840"/>
              <a:ext cx="5455800" cy="610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 Vector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027080"/>
              <a:ext cx="2372760" cy="1038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Dia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4800" y="1027080"/>
              <a:ext cx="5455800" cy="6102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Graphics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20:03:58Z</dcterms:modified>
  <cp:revision>27</cp:revision>
  <dc:subject/>
  <dc:title>Slide 1</dc:title>
</cp:coreProperties>
</file>