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37B-A411-4265-81D0-A06DF254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E1D-80B6-49C0-A1FC-403A9172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612-7CC3-4152-A848-247070E8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484-00E8-4E3F-98B8-7979694C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18C-D75F-4B7F-82E5-E3F90882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DD6F-1F7F-4BEB-AD53-3386CCA4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EE04-457B-4A1C-AC62-900F6BBE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417-1B79-47D4-8128-FCF6857E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06E0-3231-421C-9EF2-BCA20C90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F240-B3F8-452B-BDB7-E12F6A8D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BAB0-DC51-4130-B578-8D28474F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F1CB-C5DE-40FD-A65D-D0260605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DD10-5155-40E4-95AE-D89839CED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3880"/>
            <a:ext cx="9144000" cy="3353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840" y="763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a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20" y="152388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9320" y="5258520"/>
            <a:ext cx="2396880" cy="520920"/>
            <a:chOff x="319320" y="5258520"/>
            <a:chExt cx="2396880" cy="520920"/>
          </a:xfrm>
        </p:grpSpPr>
        <p:sp>
          <p:nvSpPr>
            <p:cNvPr id="47" name=""/>
            <p:cNvSpPr/>
            <p:nvPr/>
          </p:nvSpPr>
          <p:spPr>
            <a:xfrm>
              <a:off x="319320" y="5258520"/>
              <a:ext cx="174276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TagHand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95240" y="5411160"/>
              <a:ext cx="192096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VGTagHand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767240" y="3974400"/>
            <a:ext cx="2288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icTag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00" y="2145600"/>
            <a:ext cx="1438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44920" y="2123280"/>
            <a:ext cx="12992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05560" y="240480"/>
            <a:ext cx="7779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5600" y="2145600"/>
            <a:ext cx="1249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7" idx="0"/>
            <a:endCxn id="50" idx="2"/>
          </p:cNvCxnSpPr>
          <p:nvPr/>
        </p:nvCxnSpPr>
        <p:spPr>
          <a:xfrm rot="16200000">
            <a:off x="-181800" y="3886200"/>
            <a:ext cx="274500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5" name=""/>
          <p:cNvCxnSpPr>
            <a:stCxn id="49" idx="0"/>
            <a:endCxn id="50" idx="2"/>
          </p:cNvCxnSpPr>
          <p:nvPr/>
        </p:nvCxnSpPr>
        <p:spPr>
          <a:xfrm flipV="1" rot="16200000">
            <a:off x="1320840" y="2383560"/>
            <a:ext cx="1460880" cy="1721160"/>
          </a:xfrm>
          <a:prstGeom prst="bentConnector3">
            <a:avLst>
              <a:gd name="adj1" fmla="val 5001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6" name=""/>
          <p:cNvCxnSpPr>
            <a:stCxn id="51" idx="0"/>
            <a:endCxn id="52" idx="2"/>
          </p:cNvCxnSpPr>
          <p:nvPr/>
        </p:nvCxnSpPr>
        <p:spPr>
          <a:xfrm rot="16200000">
            <a:off x="7037280" y="1365840"/>
            <a:ext cx="151488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57" name=""/>
          <p:cNvSpPr/>
          <p:nvPr/>
        </p:nvSpPr>
        <p:spPr>
          <a:xfrm>
            <a:off x="4966920" y="2134440"/>
            <a:ext cx="16923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bol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80200" y="240480"/>
            <a:ext cx="866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7" idx="0"/>
            <a:endCxn id="58" idx="2"/>
          </p:cNvCxnSpPr>
          <p:nvPr/>
        </p:nvCxnSpPr>
        <p:spPr>
          <a:xfrm flipH="1" flipV="1" rot="5400000">
            <a:off x="5050080" y="1371600"/>
            <a:ext cx="1526040" cy="72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0" name=""/>
          <p:cNvSpPr/>
          <p:nvPr/>
        </p:nvSpPr>
        <p:spPr>
          <a:xfrm>
            <a:off x="6894720" y="48769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47Z</dcterms:modified>
  <cp:revision>26</cp:revision>
  <dc:subject/>
  <dc:title>Slide 1</dc:title>
</cp:coreProperties>
</file>