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513F-A0FF-4277-BBE4-395B263E7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1142-3031-47EE-8E65-C379F4EF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C20D-408C-4868-ACD2-57128DE9F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A294-848D-44F1-9236-432EE1989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C3FC-4976-4183-8BFB-28C1C24E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CFAD-9D83-4268-B4D6-23D85E15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F2BB-E1AD-4B96-B4F3-B2CF0248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EB6B-16F2-4735-B08B-DD09A926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F0C1-9178-4B0C-B7C3-9FBEF4A8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E81E-3CAC-4996-A344-94AE7F0C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4C72-0CFF-44E6-A9A1-3599C5AE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17EF-EB5A-4FF9-B252-75D92286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E522-0268-439A-BA1D-D87E348C5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5486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3124080" cy="2057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320" y="3429000"/>
            <a:ext cx="289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graphicsio.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320" y="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graphics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40" y="548640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82360" y="2164680"/>
            <a:ext cx="182952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uadToCubic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95800" y="2164680"/>
            <a:ext cx="182952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bicToQuad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4840" y="991440"/>
            <a:ext cx="26679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stract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7760" y="229320"/>
            <a:ext cx="182952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19840" y="5715720"/>
            <a:ext cx="2517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9800" y="4583880"/>
            <a:ext cx="2626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lyline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9320" y="4355280"/>
            <a:ext cx="2276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StringEn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842840" y="6020640"/>
            <a:ext cx="3552120" cy="661680"/>
            <a:chOff x="1842840" y="6020640"/>
            <a:chExt cx="3552120" cy="661680"/>
          </a:xfrm>
        </p:grpSpPr>
        <p:sp>
          <p:nvSpPr>
            <p:cNvPr id="55" name=""/>
            <p:cNvSpPr/>
            <p:nvPr/>
          </p:nvSpPr>
          <p:spPr>
            <a:xfrm>
              <a:off x="1842840" y="6020640"/>
              <a:ext cx="2466720" cy="3682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MFPathConstru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52680" y="6172920"/>
              <a:ext cx="2288520" cy="3682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SPathConstru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54160" y="6314040"/>
              <a:ext cx="2440800" cy="3682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DFPathConstru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8" name=""/>
          <p:cNvCxnSpPr>
            <a:stCxn id="51" idx="0"/>
            <a:endCxn id="52" idx="2"/>
          </p:cNvCxnSpPr>
          <p:nvPr/>
        </p:nvCxnSpPr>
        <p:spPr>
          <a:xfrm flipH="1" flipV="1" rot="5400000">
            <a:off x="5898600" y="5331600"/>
            <a:ext cx="763920" cy="5040"/>
          </a:xfrm>
          <a:prstGeom prst="bentConnector3">
            <a:avLst>
              <a:gd name="adj1" fmla="val 50023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52" idx="0"/>
            <a:endCxn id="60" idx="2"/>
          </p:cNvCxnSpPr>
          <p:nvPr/>
        </p:nvCxnSpPr>
        <p:spPr>
          <a:xfrm flipH="1" flipV="1" rot="5400000">
            <a:off x="6035400" y="4331160"/>
            <a:ext cx="500760" cy="5400"/>
          </a:xfrm>
          <a:prstGeom prst="bentConnector3">
            <a:avLst>
              <a:gd name="adj1" fmla="val 5007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9" idx="2"/>
          </p:cNvCxnSpPr>
          <p:nvPr/>
        </p:nvCxnSpPr>
        <p:spPr>
          <a:xfrm flipV="1" rot="16200000">
            <a:off x="6387120" y="741240"/>
            <a:ext cx="805320" cy="204228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50" idx="2"/>
          </p:cNvCxnSpPr>
          <p:nvPr/>
        </p:nvCxnSpPr>
        <p:spPr>
          <a:xfrm flipV="1" rot="16200000">
            <a:off x="5568480" y="791280"/>
            <a:ext cx="394200" cy="6480"/>
          </a:xfrm>
          <a:prstGeom prst="bentConnector3">
            <a:avLst>
              <a:gd name="adj1" fmla="val 5009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sp>
        <p:nvSpPr>
          <p:cNvPr id="63" name=""/>
          <p:cNvSpPr/>
          <p:nvPr/>
        </p:nvSpPr>
        <p:spPr>
          <a:xfrm>
            <a:off x="6567120" y="6325200"/>
            <a:ext cx="2492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6" idx="0"/>
            <a:endCxn id="47" idx="2"/>
          </p:cNvCxnSpPr>
          <p:nvPr/>
        </p:nvCxnSpPr>
        <p:spPr>
          <a:xfrm flipH="1" flipV="1" rot="5400000">
            <a:off x="1913760" y="4489920"/>
            <a:ext cx="3366000" cy="720"/>
          </a:xfrm>
          <a:prstGeom prst="bentConnector3">
            <a:avLst>
              <a:gd name="adj1" fmla="val 50005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5" name=""/>
          <p:cNvCxnSpPr>
            <a:stCxn id="47" idx="0"/>
            <a:endCxn id="49" idx="2"/>
          </p:cNvCxnSpPr>
          <p:nvPr/>
        </p:nvCxnSpPr>
        <p:spPr>
          <a:xfrm flipH="1" flipV="1" rot="5400000">
            <a:off x="4280400" y="676440"/>
            <a:ext cx="805320" cy="217188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6" name=""/>
          <p:cNvCxnSpPr>
            <a:stCxn id="63" idx="0"/>
            <a:endCxn id="48" idx="2"/>
          </p:cNvCxnSpPr>
          <p:nvPr/>
        </p:nvCxnSpPr>
        <p:spPr>
          <a:xfrm flipV="1" rot="16200000">
            <a:off x="6053040" y="4564800"/>
            <a:ext cx="3518280" cy="3240"/>
          </a:xfrm>
          <a:prstGeom prst="bentConnector3">
            <a:avLst>
              <a:gd name="adj1" fmla="val 50010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7" name=""/>
          <p:cNvCxnSpPr>
            <a:stCxn id="60" idx="0"/>
            <a:endCxn id="47" idx="2"/>
          </p:cNvCxnSpPr>
          <p:nvPr/>
        </p:nvCxnSpPr>
        <p:spPr>
          <a:xfrm flipV="1" rot="16200000">
            <a:off x="4625640" y="1778400"/>
            <a:ext cx="633960" cy="2691360"/>
          </a:xfrm>
          <a:prstGeom prst="bentConnector3">
            <a:avLst>
              <a:gd name="adj1" fmla="val 50056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53" idx="0"/>
            <a:endCxn id="47" idx="2"/>
          </p:cNvCxnSpPr>
          <p:nvPr/>
        </p:nvCxnSpPr>
        <p:spPr>
          <a:xfrm flipH="1" flipV="1" rot="5400000">
            <a:off x="1753200" y="2511360"/>
            <a:ext cx="1548360" cy="2140200"/>
          </a:xfrm>
          <a:prstGeom prst="bentConnector3">
            <a:avLst>
              <a:gd name="adj1" fmla="val 50023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60" name=""/>
          <p:cNvSpPr/>
          <p:nvPr/>
        </p:nvSpPr>
        <p:spPr>
          <a:xfrm>
            <a:off x="5373360" y="3440880"/>
            <a:ext cx="182952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bicToLin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01:28:06Z</dcterms:created>
  <dc:creator>duns</dc:creator>
  <dc:description/>
  <dc:language>en-US</dc:language>
  <cp:lastModifiedBy>duns</cp:lastModifiedBy>
  <dcterms:modified xsi:type="dcterms:W3CDTF">2003-03-22T01:18:35Z</dcterms:modified>
  <cp:revision>26</cp:revision>
  <dc:subject/>
  <dc:title>Slide 1</dc:title>
</cp:coreProperties>
</file>