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91A-6356-40A8-91AA-2A86A1AC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88D8-D08C-42CC-95CD-537D193C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13AE-4572-454F-908C-70AA3EF0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21C-6567-42E0-8191-E080418A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749-0DA2-4AAF-89C0-952A8978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EF67-A584-4F9D-BF7E-700F15B8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BD06-B703-49FC-8554-36DF2EFB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52A-CBF6-443B-ABA1-3C823118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207-DC21-40FA-9C6E-A5BCC5E9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9CE6-C53B-405B-895E-9B4CDF14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FCA-6584-4AA0-899A-F0D80648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EB2C-41B4-4DCE-9BA6-E29C3B42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850D-CA15-4DF8-AD0C-76AD6C028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tegriography.com/" TargetMode="External"/><Relationship Id="rId2" Type="http://schemas.openxmlformats.org/officeDocument/2006/relationships/hyperlink" Target="http://windowsir.blogspot.com/2010/02/mft-analysis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F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ntegriography.com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indowsir.blogspot.com/2010/02/mft-analysi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M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ten by David Kovar, C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on tool to parse $M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ses the attributes of each file in an NTFS fil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 is really g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V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least 50 entries for each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by other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- if the entry is val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e - if the entry is a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type - the type of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Sequence - the sequence number for the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Folder Record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Folder Sequence Numb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standard information attribut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ic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ry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up to four file name record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ic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ry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Volume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Object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Domain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flags to show if each of the following attributes is present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 Information, Attribute List, Filename, Object ID, Volume Name, Volume Info, Data, Index Root, Index Allocation, Bitmap, Reparse Point, EA Information, EA, Property Set, Logged Utility 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s/Log - Field used to log any significant events or observations relating to this reco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d-fn-shift - Populated if anomaly detection is turned on. Y/N. Y indicates that the FN create date is later than the STD create d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c-zero - Populated if anomaly detection is turned on. Y/N. Y indicates that the STD create date's microsecond value is zer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told you s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0575","Good","Inactive","0","5422 - 5426","3","TRANSFERMGR.EXE-24D2A23F.pf","2009/12/27 18:35:57.625000","2009/12/28 05:32:01.390625","2009/12/27 18:35:57.625000","2009/12/28 05:32:01.390625","2009/12/27 18:35:57.625000","2009/12/27 18:35:57.625000","2009/12/27 18:35:57.625000","2009/12/27 18:35:57.625000","","","","","TRANSFERMGR.EXE-24D2A23F.pf","2009/12/27 18:35:57.625000","2009/12/27 18:35:57.625000","2009/12/27 18:35:57.625000","2009/12/27 18:35:57.625000","","","","","","","","","","","True","False","False","False","False","False","True","False","False","False","False","False","False","False","False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ge: analyzeMFT.py [option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, --help show this help message and ex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f FILE, --file=FILE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ad MFT from F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o FILE, --output=FI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results to 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, --anomaly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rn on anomaly det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b FILE, --bodyfile=FI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MAC information to body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g, --gui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GUI for file sel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d, --debu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urn on debugging 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he M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MF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y David Kov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iography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ython c:\bin\analyzeMFT.py –f ntfs.mft –o mft.t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2:31:27Z</dcterms:created>
  <dc:creator>Ackler</dc:creator>
  <dc:description/>
  <dc:language>en-US</dc:language>
  <cp:lastModifiedBy>Lynn</cp:lastModifiedBy>
  <dcterms:modified xsi:type="dcterms:W3CDTF">2012-10-23T17:43:34Z</dcterms:modified>
  <cp:revision>11</cp:revision>
  <dc:subject/>
  <dc:title>MFT Analysis</dc:title>
</cp:coreProperties>
</file>