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8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992160" y="767880"/>
            <a:ext cx="5114880" cy="3837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9000" rIns="99000" tIns="49680" bIns="496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5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6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9041D-8482-400C-ABC5-CD4E50B5BFE9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536BF-F952-4B92-A204-FE9EBB13ECD4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7DDE5-5A10-48D8-A6D1-8A239E2AE5DB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0C372-2C3F-48E1-ACD0-5E99221C3DD6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2931B-AF29-465C-AB61-7FF6909FB1AD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E80EF-2D4A-4E9E-9240-E2A3CDE40649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552CF-FD28-4B55-BD39-3A36FD1FE9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CEF25-DB32-470F-8EB8-87768BD02DE5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45600" y="127944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45600" y="2079360"/>
            <a:ext cx="84488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45600" y="4287600"/>
            <a:ext cx="84488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5600" y="127944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5600" y="2079360"/>
            <a:ext cx="412272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2079360"/>
            <a:ext cx="412272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45600" y="4287600"/>
            <a:ext cx="412272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960" y="4287600"/>
            <a:ext cx="412272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5600" y="127944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45600" y="2079360"/>
            <a:ext cx="2720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02200" y="2079360"/>
            <a:ext cx="2720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58800" y="2079360"/>
            <a:ext cx="2720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45600" y="4287600"/>
            <a:ext cx="2720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02200" y="4287600"/>
            <a:ext cx="2720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58800" y="4287600"/>
            <a:ext cx="2720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0B883-D294-49C8-8ABE-16AA08C8B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5600" y="127944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45600" y="2079360"/>
            <a:ext cx="844884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8451F-9D6B-4F6C-9F01-5A5B1332E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45600" y="127944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45600" y="2079360"/>
            <a:ext cx="844884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5F8C2-01F1-40FF-B39A-6B13D4200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45600" y="127944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45600" y="2079360"/>
            <a:ext cx="412272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960" y="2079360"/>
            <a:ext cx="412272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32B32-2608-4339-8AF5-EC83B94E1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45600" y="127944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714B1-757E-48F3-A2BE-F348AAA54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45600" y="1279440"/>
            <a:ext cx="8448840" cy="322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4AF26-DBCC-4067-91A0-34A6BAC89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45600" y="127944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45600" y="2079360"/>
            <a:ext cx="412272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2079360"/>
            <a:ext cx="412272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45600" y="4287600"/>
            <a:ext cx="412272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840CF-3F3D-4C54-9C63-47978D037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45600" y="127944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345600" y="2079360"/>
            <a:ext cx="844884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45600" y="127944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45600" y="2079360"/>
            <a:ext cx="412272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960" y="2079360"/>
            <a:ext cx="412272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960" y="4287600"/>
            <a:ext cx="412272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1478F-0F7B-4A6D-AA34-9CDEEBA41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45600" y="127944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45600" y="2079360"/>
            <a:ext cx="412272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960" y="2079360"/>
            <a:ext cx="412272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45600" y="4287600"/>
            <a:ext cx="84488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148D9-66D6-4B70-8060-74BF2B041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45600" y="127944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5600" y="2079360"/>
            <a:ext cx="84488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45600" y="4287600"/>
            <a:ext cx="84488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2CB86-FDD8-4E6C-9C1D-0641C7403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45600" y="127944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45600" y="2079360"/>
            <a:ext cx="412272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2079360"/>
            <a:ext cx="412272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45600" y="4287600"/>
            <a:ext cx="412272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960" y="4287600"/>
            <a:ext cx="412272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9119D-E440-46D3-95C1-2DBDEE15F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45600" y="127944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5600" y="2079360"/>
            <a:ext cx="2720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02200" y="2079360"/>
            <a:ext cx="2720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58800" y="2079360"/>
            <a:ext cx="2720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45600" y="4287600"/>
            <a:ext cx="2720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02200" y="4287600"/>
            <a:ext cx="2720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58800" y="4287600"/>
            <a:ext cx="2720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C3428-476E-4B22-8CDB-564CE0202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5600" y="127944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45600" y="2079360"/>
            <a:ext cx="844884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5600" y="127944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5600" y="2079360"/>
            <a:ext cx="412272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960" y="2079360"/>
            <a:ext cx="412272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45600" y="127944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345600" y="1279440"/>
            <a:ext cx="8448840" cy="322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5600" y="127944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45600" y="2079360"/>
            <a:ext cx="412272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960" y="2079360"/>
            <a:ext cx="412272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345600" y="4287600"/>
            <a:ext cx="412272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45600" y="127944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45600" y="2079360"/>
            <a:ext cx="412272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960" y="2079360"/>
            <a:ext cx="412272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960" y="4287600"/>
            <a:ext cx="412272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45600" y="127944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45600" y="2079360"/>
            <a:ext cx="412272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960" y="2079360"/>
            <a:ext cx="412272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45600" y="4287600"/>
            <a:ext cx="84488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5600" y="127944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5600" y="2079360"/>
            <a:ext cx="844884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7" descr="ENU_Logo_be0f34.png"/>
          <p:cNvPicPr/>
          <p:nvPr/>
        </p:nvPicPr>
        <p:blipFill>
          <a:blip r:embed="rId2"/>
          <a:stretch/>
        </p:blipFill>
        <p:spPr>
          <a:xfrm>
            <a:off x="6594480" y="352440"/>
            <a:ext cx="2200320" cy="549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27/09/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Arial"/>
              </a:rPr>
              <a:t>CSN11109 - Lecture 2: Storage Dev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61F97-6490-4687-B994-F3D019A1EA76}" type="slidenum">
              <a:rPr b="0" lang="en-GB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SN08101</a:t>
            </a:r>
            <a:br>
              <a:rPr sz="3200"/>
            </a:b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Digital Forensics</a:t>
            </a:r>
            <a:br>
              <a:rPr sz="32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ecture 8: File Syste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ule Leader: Dr Gordon Russ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cturers: Robert Ludwini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45600" y="127944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File Encryption Key Encryp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2"/>
          <p:cNvSpPr/>
          <p:nvPr/>
        </p:nvSpPr>
        <p:spPr>
          <a:xfrm>
            <a:off x="393840" y="2419200"/>
            <a:ext cx="84722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EK is encrypted with user’s public k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EK is decrypted with user’s private k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f policy allows it, FEK is also encrypted with public key of recovery agent (and decrypted with private key of recovery agen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45600" y="127944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FS Analysis Considerati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2"/>
          <p:cNvSpPr/>
          <p:nvPr/>
        </p:nvSpPr>
        <p:spPr>
          <a:xfrm>
            <a:off x="334800" y="2233440"/>
            <a:ext cx="84852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y default a user’s private key is stored in the Windows registry, encrypted with login password as k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Login password is susceptible to brute force attack and private key might be comprom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FS creates a temporary file (EFS0.TMP) with plaintext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Marks it as deleted when finished but doesn’t actually erase cont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45600" y="127944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lternate Data Stream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2"/>
          <p:cNvSpPr/>
          <p:nvPr/>
        </p:nvSpPr>
        <p:spPr>
          <a:xfrm>
            <a:off x="334800" y="2489040"/>
            <a:ext cx="84394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ata added to a f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troduced to support Macintosh files that have a data and resource f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lmost impossible to detect with normal file browsing techniq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favourite of hackers and crimin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45600" y="127944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File System Metadata Fil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345600" y="2349360"/>
            <a:ext cx="8448840" cy="396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iles that store file system administrative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 not confuse with file meta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irst 16 MFT entries reserved for files that describe the file system listed in the roo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ach file begins with ‘$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"/>
          <p:cNvGraphicFramePr/>
          <p:nvPr/>
        </p:nvGraphicFramePr>
        <p:xfrm>
          <a:off x="328680" y="2046240"/>
          <a:ext cx="8381880" cy="4246560"/>
        </p:xfrm>
        <a:graphic>
          <a:graphicData uri="http://schemas.openxmlformats.org/drawingml/2006/table">
            <a:tbl>
              <a:tblPr/>
              <a:tblGrid>
                <a:gridCol w="1257120"/>
                <a:gridCol w="1886040"/>
                <a:gridCol w="5238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t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le 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MF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FT ent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MFTMir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ckup of the MF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LogFi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ains journal information for metadata transac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Volu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lume Information: label, identifier, ver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AttrDe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tribute information: identifier values, name, siz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ot directory of the files syst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Bitm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ains allocation status for each clus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Boo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ains the boot co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BadCl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ains clusters that have bad secto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86920" y="88092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File System Metadata Fil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45600" y="127944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aster File Tab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2"/>
          <p:cNvSpPr/>
          <p:nvPr/>
        </p:nvSpPr>
        <p:spPr>
          <a:xfrm>
            <a:off x="324000" y="2233440"/>
            <a:ext cx="8450280" cy="28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tains information about all files and directo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very file and directory has at least one entry in the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ach entry is si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–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1 KB in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–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Entry header is first 42 by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–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Remaining bytes store attrib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45600" y="127944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Resident and Non-Resident Attribut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2"/>
          <p:cNvSpPr/>
          <p:nvPr/>
        </p:nvSpPr>
        <p:spPr>
          <a:xfrm>
            <a:off x="301680" y="2327400"/>
            <a:ext cx="85294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resident attribute stores its content in the MFT e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non-resident attribute stores its content in external clus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on resident attributes are stored in cluster ru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attribute header gives the starting cluster address and its run leng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45600" y="869760"/>
            <a:ext cx="844884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Data Structure Categori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210960" y="1735200"/>
          <a:ext cx="8704440" cy="4795920"/>
        </p:xfrm>
        <a:graphic>
          <a:graphicData uri="http://schemas.openxmlformats.org/drawingml/2006/table">
            <a:tbl>
              <a:tblPr/>
              <a:tblGrid>
                <a:gridCol w="1451160"/>
                <a:gridCol w="1227240"/>
                <a:gridCol w="1171440"/>
                <a:gridCol w="1841400"/>
                <a:gridCol w="1562400"/>
                <a:gridCol w="1450800"/>
              </a:tblGrid>
              <a:tr h="938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le Syst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ada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le 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plic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45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TF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Boot, $Volume, $AttrDe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usters, $Bitm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MFT, $MFTMirr, $STANDARD_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ORMATION, $DATA, $ATTRIBUTE_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ST, $SECURITY_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CRIP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FILE_NAME$IDX_ROOT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IDX_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OCATION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BITM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k Quota, Journal, Change Journ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>
                        <a:alpha val="20000"/>
                      </a:srgbClr>
                    </a:solidFill>
                  </a:tcPr>
                </a:tc>
              </a:tr>
              <a:tr h="5432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3" name="Object 2"/>
          <p:cNvGraphicFramePr/>
          <p:nvPr/>
        </p:nvGraphicFramePr>
        <p:xfrm>
          <a:off x="228600" y="2595600"/>
          <a:ext cx="8785080" cy="180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595600"/>
                    <a:ext cx="8785080" cy="18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45600" y="127944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NTFS Record Layou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45600" y="127944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NTFS Recor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4"/>
          <p:cNvSpPr/>
          <p:nvPr/>
        </p:nvSpPr>
        <p:spPr>
          <a:xfrm>
            <a:off x="428760" y="2430360"/>
            <a:ext cx="82296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ach MFT record is addressed by a 48 bit MFT entry valu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irst entry has address 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ach MFT entry has a 16 bit sequence number that is incremented when the entry is alloca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FT entry value and sequence number combined yield 64b file reference addre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45600" y="127944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85640" y="226188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vestigative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alysis Fram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ile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TF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T2/EXT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ight Brace 1"/>
          <p:cNvSpPr/>
          <p:nvPr/>
        </p:nvSpPr>
        <p:spPr>
          <a:xfrm>
            <a:off x="5473800" y="2371680"/>
            <a:ext cx="255600" cy="1714680"/>
          </a:xfrm>
          <a:custGeom>
            <a:avLst/>
            <a:gdLst>
              <a:gd name="textAreaLeft" fmla="*/ 0 w 255600"/>
              <a:gd name="textAreaRight" fmla="*/ 92160 w 255600"/>
              <a:gd name="textAreaTop" fmla="*/ 6480 h 1714680"/>
              <a:gd name="textAreaBottom" fmla="*/ 1708200 h 1714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34"/>
                  <a:pt x="10800" y="268"/>
                </a:cubicBezTo>
                <a:lnTo>
                  <a:pt x="10800" y="10532"/>
                </a:lnTo>
                <a:cubicBezTo>
                  <a:pt x="10800" y="10666"/>
                  <a:pt x="16200" y="10800"/>
                  <a:pt x="21600" y="10800"/>
                </a:cubicBezTo>
                <a:cubicBezTo>
                  <a:pt x="16200" y="10800"/>
                  <a:pt x="10800" y="10934"/>
                  <a:pt x="10800" y="11068"/>
                </a:cubicBezTo>
                <a:lnTo>
                  <a:pt x="10800" y="21332"/>
                </a:lnTo>
                <a:cubicBezTo>
                  <a:pt x="10800" y="21466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2"/>
          <p:cNvSpPr/>
          <p:nvPr/>
        </p:nvSpPr>
        <p:spPr>
          <a:xfrm>
            <a:off x="5811840" y="3022560"/>
            <a:ext cx="12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ast wee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45600" y="127944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NTFS Recor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4"/>
          <p:cNvSpPr/>
          <p:nvPr/>
        </p:nvSpPr>
        <p:spPr>
          <a:xfrm>
            <a:off x="428760" y="2430360"/>
            <a:ext cx="8229600" cy="32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FT entry attributes are loosely defin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attribute is preceded by the attribute hea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ttribute header identif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ype of attribu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45600" y="127944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FT Record Structu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21840" y="2260080"/>
            <a:ext cx="8448840" cy="373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x00-0x03: Magic Number: "FILE"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x04-0x05: Offset to the update seque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x06-0x07: Number of entries in fixup arr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x08-0x0f:  $LogFile Sequence Number (LS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x10-0x11: Sequence nu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x12-0x13: Hard link cou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x14-0x15: Offset to first attribu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45600" y="127944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FT Record Structu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22200" y="2227320"/>
            <a:ext cx="8648640" cy="361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x16-0x17: Flags: 0x01 record in use, 0x02 directo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x18-0x1B: Used size of MFT e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x1C-0x1F: Allocated size of MFT ent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x20-0x27: File reference to the base FILE rec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x28-0x29: Next attribute 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x2A-0x2B: (XP) Align to 4B bound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x2C-0x2F: (XP) Number of this MFT rec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x30-0x100: Attributes and fixup val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10680" y="974520"/>
            <a:ext cx="844884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FT Attribute Layou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45600" y="2087280"/>
            <a:ext cx="8448840" cy="42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FT Header is always the sam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x00 Attribute Type Identifi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x04 Length of Attribu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x08 non-resident fla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x09 length of n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x0a offset to n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x0c fla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69360" y="669600"/>
            <a:ext cx="844884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FT List of Possible Attribut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38280" y="161784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ed in $AttrDef entry of MFT, but default 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x10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STANDARD_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x20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ATTRIBUTE_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x30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FILE_NAME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40 (NT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VOLUME_VERSION (2K) $OBJECT_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x50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SECURITY_DESCRIP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x60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VOLUME_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x70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VOLUME_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x80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x90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INDEX_RO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xA0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INDEX_ALLO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xB0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BIT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xC0 (NT) $SYMBOLIC_LINK, (2K) $REPARSE_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xD0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EA_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xE0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EA0xF0NT$PROPERTY_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x100(2K) $LOGGED_UTILITY_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56760" y="704520"/>
            <a:ext cx="844884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FT Attribute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1447920" y="2209680"/>
          <a:ext cx="6858000" cy="4267440"/>
        </p:xfrm>
        <a:graphic>
          <a:graphicData uri="http://schemas.openxmlformats.org/drawingml/2006/table">
            <a:tbl>
              <a:tblPr/>
              <a:tblGrid>
                <a:gridCol w="1114200"/>
                <a:gridCol w="600120"/>
                <a:gridCol w="600120"/>
                <a:gridCol w="4543560"/>
              </a:tblGrid>
              <a:tr h="47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x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ile Creation Ti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x0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ile Alteration Ti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x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FT Chan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x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ile Read Ti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x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OS File Permissio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x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aximum number of versio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x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ersion numb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x2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lass I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x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wner I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0" name="Text Box 145"/>
          <p:cNvSpPr/>
          <p:nvPr/>
        </p:nvSpPr>
        <p:spPr>
          <a:xfrm>
            <a:off x="990720" y="152388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ndard Info Attribut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6705720" y="0"/>
            <a:ext cx="2438280" cy="12952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69360" y="31896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reating Fi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2"/>
          <p:cNvSpPr/>
          <p:nvPr/>
        </p:nvSpPr>
        <p:spPr>
          <a:xfrm>
            <a:off x="358920" y="1076400"/>
            <a:ext cx="827532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Read volume boot sector to locate MF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Read first entry in MFT to determine layout of MF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llocate an MFT entry for the new fil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nitialize MFT entry with $STANDARD_INFORMATION, etc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Check MFT $Bitmap to find free clusters, using best-fit algorith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et corresponding $Bitmap bits to 1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Write file content to clusters and update $DATA attribute with starting address of cluster run and run length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Read root directory (MFT entry 5), traverse index, and find dir1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Read $INDEX_ROOT attribute for dir1 and determine where file1.txt should g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Create new index entry; resort index tre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Enter steps in $LogFile (as each step is tak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75760" y="653760"/>
            <a:ext cx="844884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Deleting Fi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2"/>
          <p:cNvSpPr/>
          <p:nvPr/>
        </p:nvSpPr>
        <p:spPr>
          <a:xfrm>
            <a:off x="404640" y="1574640"/>
            <a:ext cx="815976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ad volume boot sector to locate MF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ad first entry in MFT to determine layout of MF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ad root directory (MFT entry 5), traverse index, and find dir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ad $INDEX_ROOT for dir1 entry and find file1.txt ent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move filename entry from index; move other entries ov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t MFT $Bitmap entries to 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nter steps in $LogFile (as each step is taken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NTFS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-360" y="44604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fsstat -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display general details of a file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2"/>
          <p:cNvSpPr/>
          <p:nvPr/>
        </p:nvSpPr>
        <p:spPr>
          <a:xfrm>
            <a:off x="208080" y="1179360"/>
            <a:ext cx="4352760" cy="56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FILE SYSTEM INFORM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------------------------------------------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File System Type: NT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Volume Serial Number: 2A040574040543F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EM Name: NT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Version: Windows X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METADATA INFORM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------------------------------------------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First Cluster of MFT: 32457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First Cluster of MFT Mirror: 48685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ize of MFT Entries: 1024 by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ize of Index Records: 4096 by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ange: 0 - 1451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oot Directory: 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ONTENT INFORM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------------------------------------------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ector Size: 5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luster Size: 204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otal Cluster Range: 0 - 9737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otal Sector Range: 0 - 389484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45600" y="16812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fsstat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(continue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208080" y="1006560"/>
            <a:ext cx="84405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$AttrDef Attribute Valu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$STANDARD_INFORMATION (16)   Size: 48-72   Flags: Resid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$ATTRIBUTE_LIST (32)   Size: No Limit   Flags: Non-resid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$FILE_NAME (48)   Size: 68-578   Flags: Resident,Ind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$OBJECT_ID (64)   Size: 0-256   Flags: Resid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$SECURITY_DESCRIPTOR (80)   Size: No Limit   Flags: Non-resid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$VOLUME_NAME (96)   Size: 2-256   Flags: Resid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$VOLUME_INFORMATION (112)   Size: 12-12   Flags: Resid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$DATA (128)   Size: No Limit   Flag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$INDEX_ROOT (144)   Size: No Limit   Flags: Resid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$INDEX_ALLOCATION (160)   Size: No Limit   Flags: Non-resid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$BITMAP (176)   Size: No Limit   Flags: Non-resid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$REPARSE_POINT (192)   Size: 0-16384   Flags: Non-resid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$EA_INFORMATION (208)   Size: 8-8   Flags: Resid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$EA (224)   Size: 0-65536   Flag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$LOGGED_UTILITY_STREAM (256)   Size: 0-65536   Flags: Non-resid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43000" y="180720"/>
            <a:ext cx="844848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fls -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list file and directory nam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2"/>
          <p:cNvSpPr/>
          <p:nvPr/>
        </p:nvSpPr>
        <p:spPr>
          <a:xfrm>
            <a:off x="243000" y="1109520"/>
            <a:ext cx="865800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/r 4-128-4:    $AttrDe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/r 8-128-2:    $BadCl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/r 8-128-1:    $BadClus:$B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/r 6-128-1:    $Bitm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/r 7-128-1:    $B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/d 11-144-4:   $Ext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/r 2-128-1:    $LogF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/r 0-128-1:    $M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/r 1-128-1:    $MFTMir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/r 9-128-8:    $Secure:$S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/r 9-144-11:   $Secure:$SD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/r 9-144-14:   $Secure:$S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/r 10-128-1:   $Up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/r 3-128-3:    $Volu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/r 6679-128-1: AUTOEXEC.B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/r 3052-128-3: boot.in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/r 5505-128-1: CONFIG.S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/d 3058-144-6: Documents and Sett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/r 3039-128-1: hiberfil.s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/r 13377-128-3:        hpfr5550.lo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/r 6680-128-1: IO.S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/r 6681-128-1: MSDOS.S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/r 3020-128-3: NTDETECT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/r 3016-128-3: ntld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/r 27-128-1:   pagefile.s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/d 3457-144-6: Program Fi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/d 12728-144-1:        RECYCL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/d 7611-144-1: System Volume In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/d 28-144-6:   WINDO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/d 14519:      $OrphanFi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84320" y="869760"/>
            <a:ext cx="844848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istat -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Display details of a meta-data structu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2"/>
          <p:cNvSpPr/>
          <p:nvPr/>
        </p:nvSpPr>
        <p:spPr>
          <a:xfrm>
            <a:off x="173160" y="1973160"/>
            <a:ext cx="872784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MFT Entry Header Valu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ntry: 5505        Sequence: 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LogFile Sequence Number: 156340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llocated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Links: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STANDARD_INFORMATION Attribute Valu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lags: Arch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Owner ID: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ecurity ID: 258  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ed:        Mon Oct 21 16:56:44 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ile Modified:  Mon Oct 21 16:56:44 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MFT Modified:   Mon Oct 21 16:56:44 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ccessed:       Mon Oct 21 16:56:44 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6480" y="879120"/>
            <a:ext cx="844884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istat -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Display details of a meta-data structu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2"/>
          <p:cNvSpPr/>
          <p:nvPr/>
        </p:nvSpPr>
        <p:spPr>
          <a:xfrm>
            <a:off x="96840" y="1773360"/>
            <a:ext cx="8728200" cy="368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$FILE_NAME Attribute Valu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Flags: Arch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Name: CONFIG.SY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arent MFT Entry: 5     Sequence: 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llocated Size: 0       Actual Size: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ed:        Mon Oct 21 16:56:44 200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File Modified:  Mon Oct 21 16:56:44 200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MFT Modified:   Mon Oct 21 16:56:44 200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ccessed:       Mon Oct 21 16:56:44 200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ttribut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: $STANDARD_INFORMATION (16-0)   Name: N/A   Resident   size: 7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: $FILE_NAME (48-2)   Name: N/A   Resident   size: 8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: $DATA (128-1)   Name: N/A   Resident   size: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85760" y="191880"/>
            <a:ext cx="844848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Arial"/>
                <a:ea typeface="Arial"/>
              </a:rPr>
              <a:t>icat -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  <a:ea typeface="Arial"/>
              </a:rPr>
              <a:t>Output the contents of a file based on its inode numb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TextBox 2"/>
          <p:cNvSpPr/>
          <p:nvPr/>
        </p:nvSpPr>
        <p:spPr>
          <a:xfrm>
            <a:off x="185760" y="882720"/>
            <a:ext cx="6310440" cy="59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000000: 4649 4c45 3000 0300 2497 2b02 0000 0000  FILE0...$.+..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000010: 0100 0100 3800 0100 9801 0000 0004 0000  ....8........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000020: 0000 0000 0000 0000 0600 0000 0000 0000  .............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000030: f000 0000 0000 0000 1000 0000 6000 0000  ............`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000040: 0000 1800 0000 0000 4800 0000 1800 0000  ........H....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000050: c08e 3200 e478 c201 c08e 3200 e478 c201  ..2..x....2..x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000060: c08e 3200 e478 c201 c08e 3200 e478 c201  ..2..x....2..x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000070: 0600 0000 0000 0000 0000 0000 0000 0000  .............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000080: 0000 0000 0001 0000 0000 0000 0000 0000  .............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000090: 0000 0000 0000 0000 3000 0000 6800 0000  ........0...h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0000a0: 0000 1800 0000 0300 4a00 0000 1800 0100  ........J....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0000b0: 0500 0000 0000 0500 c08e 3200 e478 c201  ..........2..x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0000c0: c08e 3200 e478 c201 c08e 3200 e478 c201  ..2..x....2..x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0000d0: c08e 3200 e478 c201 0040 0000 0000 0000  ..2..x...@...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0000e0: 0040 0000 0000 0000 0600 0000 0000 0000  .@...........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0000f0: 0403 2400 4d00 4600 5400 0000 0000 0000  ..$.M.F.T....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000100: 8000 0000 4800 0000 0100 4000 0000 0100  ....H.....@..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000110: 0000 0000 0000 0000 5f1c 0000 0000 0000  ........_....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000120: 4000 0000 0000 0000 0000 e300 0000 0000  @............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000130: 00dc e200 0000 0000 00dc e200 0000 0000  .............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000140: 3260 1cda f304 0080 b000 0000 4800 0000  2`..........H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000150: 0100 4000 0000 0500 0000 0000 0000 0000  ..@..........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000160: 0000 0000 0000 0000 4000 0000 0000 0000  ........@....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000170: 0008 0000 0000 0000 1807 0000 0000 0000  .............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000180: 1807 0000 0000 0000 3101 d9f3 0400 0000  ........1....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000190: ffff ffff 0000 0000 006c 0000 0000 0000  .........l...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0001a0: 006c 0000 0000 0000 3110 daf3 0400 0000  .l......1....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0001b0: b000 0000 4800 0000 0100 4000 0000 0500  ....H.....@..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0001c0: 0000 0000 0000 0000 0000 0000 0000 0000  .............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0001d0: 4000 0000 0000 0000 0008 0000 0000 0000  @............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0001e0: 0800 0000 0000 0000 0800 0000 0000 0000  .............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0001f0: 3101 d9f3 0400 0000 ffff ffff 0000 f000  1............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EXT2/EXT3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45600" y="127944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Introduc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45600" y="2087280"/>
            <a:ext cx="8448840" cy="42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Ext2 and Ext3 are the default Linux file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Ext3 is the new version of Ext2 and adds journaling mechanism, but the basic structures are the sa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The metadata is stored throughout the file system, and the metadata which is associated with a file are stored “near” 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45600" y="127944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File System Layou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45600" y="2087280"/>
            <a:ext cx="8448840" cy="42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The whole area is divided into several block groups, and block groups contains several block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A block group is used to store file metadata and file cont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114480" y="4548240"/>
          <a:ext cx="8915400" cy="1000080"/>
        </p:xfrm>
        <a:graphic>
          <a:graphicData uri="http://schemas.openxmlformats.org/drawingml/2006/table">
            <a:tbl>
              <a:tblPr/>
              <a:tblGrid>
                <a:gridCol w="892080"/>
                <a:gridCol w="890640"/>
                <a:gridCol w="892080"/>
                <a:gridCol w="890640"/>
                <a:gridCol w="892080"/>
                <a:gridCol w="892080"/>
                <a:gridCol w="890640"/>
                <a:gridCol w="892080"/>
                <a:gridCol w="890640"/>
                <a:gridCol w="892440"/>
              </a:tblGrid>
              <a:tr h="100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Super Bloc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Group Descr 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Block Bitm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Inode Bitm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Inode 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File Da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..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File Da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Block Bitm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Inode Bitm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7" name="文字方塊 6"/>
          <p:cNvSpPr/>
          <p:nvPr/>
        </p:nvSpPr>
        <p:spPr>
          <a:xfrm>
            <a:off x="1857240" y="4071960"/>
            <a:ext cx="164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標楷體"/>
              </a:rPr>
              <a:t>Block Group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文字方塊 8"/>
          <p:cNvSpPr/>
          <p:nvPr/>
        </p:nvSpPr>
        <p:spPr>
          <a:xfrm>
            <a:off x="7286760" y="4071960"/>
            <a:ext cx="164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標楷體"/>
              </a:rPr>
              <a:t>Block Group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7"/>
          <p:cNvSpPr/>
          <p:nvPr/>
        </p:nvSpPr>
        <p:spPr>
          <a:xfrm>
            <a:off x="1876320" y="4475160"/>
            <a:ext cx="5391360" cy="11523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45600" y="127944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Metadata Concep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345600" y="2087280"/>
            <a:ext cx="8448840" cy="42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Superblock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The Ext2 superblock is located 1024 bytes from the start of the file system and is 1024 bytes in size. ( The first two sectors are used to store boot code if necessar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Back up copies are typically stored in the first file data block of each block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It contains basic information of the file system, such as the block size, the total number of block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45600" y="127944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le System: NTF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45600" y="2087280"/>
            <a:ext cx="8448840" cy="42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ster File table grows, never shrink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-tree algorithm used for file tre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-“balances” file system tree when tree chang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eating or deleting a file can cause entire tree to change and can overwrite nodes that were marked as free but still had information in the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ots of attributes on files, can be confusing (e.g., which access time is the “official” one to us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st useful attributes are MAC tim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Master File Table (MFT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Contains information about all files and director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Each has at least one entry in the t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45600" y="127944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Metadata Concep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45600" y="2087280"/>
            <a:ext cx="8448840" cy="42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Block Group Descriptor Table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It contains a group descriptor data structure for every block grou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The group descriptor stores the address of block bitmap and inode bitmap for the block grou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Bitmap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The block bitmap manages the allocation status of the blocks in the grou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The inode bitmap manages the allocation status of the inodes in the grou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45600" y="127944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Metadata Concep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矩形 3"/>
          <p:cNvSpPr/>
          <p:nvPr/>
        </p:nvSpPr>
        <p:spPr>
          <a:xfrm>
            <a:off x="258840" y="3429000"/>
            <a:ext cx="1000080" cy="1214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Super Bl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矩形 4"/>
          <p:cNvSpPr/>
          <p:nvPr/>
        </p:nvSpPr>
        <p:spPr>
          <a:xfrm>
            <a:off x="1258920" y="3429000"/>
            <a:ext cx="1000080" cy="1214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Block Desc 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矩形 5"/>
          <p:cNvSpPr/>
          <p:nvPr/>
        </p:nvSpPr>
        <p:spPr>
          <a:xfrm>
            <a:off x="4214880" y="2071800"/>
            <a:ext cx="1143000" cy="1214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Block Bit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矩形 6"/>
          <p:cNvSpPr/>
          <p:nvPr/>
        </p:nvSpPr>
        <p:spPr>
          <a:xfrm>
            <a:off x="4214880" y="3500280"/>
            <a:ext cx="1143000" cy="1214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Block Bit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矩形 7"/>
          <p:cNvSpPr/>
          <p:nvPr/>
        </p:nvSpPr>
        <p:spPr>
          <a:xfrm>
            <a:off x="4214880" y="5429160"/>
            <a:ext cx="1143000" cy="1214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Block Bit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文字方塊 8"/>
          <p:cNvSpPr/>
          <p:nvPr/>
        </p:nvSpPr>
        <p:spPr>
          <a:xfrm>
            <a:off x="4579920" y="4786200"/>
            <a:ext cx="54612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標楷體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文字方塊 9"/>
          <p:cNvSpPr/>
          <p:nvPr/>
        </p:nvSpPr>
        <p:spPr>
          <a:xfrm>
            <a:off x="3071880" y="24289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標楷體"/>
              </a:rPr>
              <a:t>Group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文字方塊 10"/>
          <p:cNvSpPr/>
          <p:nvPr/>
        </p:nvSpPr>
        <p:spPr>
          <a:xfrm>
            <a:off x="3071880" y="385776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標楷體"/>
              </a:rPr>
              <a:t>Group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文字方塊 11"/>
          <p:cNvSpPr/>
          <p:nvPr/>
        </p:nvSpPr>
        <p:spPr>
          <a:xfrm>
            <a:off x="3071880" y="59292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標楷體"/>
              </a:rPr>
              <a:t>Group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矩形 21"/>
          <p:cNvSpPr/>
          <p:nvPr/>
        </p:nvSpPr>
        <p:spPr>
          <a:xfrm>
            <a:off x="5357880" y="2071800"/>
            <a:ext cx="1143000" cy="1214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Inode Bit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矩形 22"/>
          <p:cNvSpPr/>
          <p:nvPr/>
        </p:nvSpPr>
        <p:spPr>
          <a:xfrm>
            <a:off x="6500880" y="2071800"/>
            <a:ext cx="1143000" cy="1214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Inode 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矩形 23"/>
          <p:cNvSpPr/>
          <p:nvPr/>
        </p:nvSpPr>
        <p:spPr>
          <a:xfrm>
            <a:off x="5357880" y="3500280"/>
            <a:ext cx="1143000" cy="1214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Inode Bit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矩形 24"/>
          <p:cNvSpPr/>
          <p:nvPr/>
        </p:nvSpPr>
        <p:spPr>
          <a:xfrm>
            <a:off x="6500880" y="3500280"/>
            <a:ext cx="1143000" cy="1214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Inode 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矩形 25"/>
          <p:cNvSpPr/>
          <p:nvPr/>
        </p:nvSpPr>
        <p:spPr>
          <a:xfrm>
            <a:off x="5357880" y="5429160"/>
            <a:ext cx="1143000" cy="1214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Inode Bit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矩形 26"/>
          <p:cNvSpPr/>
          <p:nvPr/>
        </p:nvSpPr>
        <p:spPr>
          <a:xfrm>
            <a:off x="6500880" y="5429160"/>
            <a:ext cx="1143000" cy="1214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Inode 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0" name="Straight Arrow Connector 27"/>
          <p:cNvCxnSpPr>
            <a:stCxn id="176" idx="3"/>
            <a:endCxn id="181" idx="1"/>
          </p:cNvCxnSpPr>
          <p:nvPr/>
        </p:nvCxnSpPr>
        <p:spPr>
          <a:xfrm flipV="1">
            <a:off x="2259000" y="2613960"/>
            <a:ext cx="813600" cy="1423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1" name="Straight Arrow Connector 29"/>
          <p:cNvCxnSpPr>
            <a:stCxn id="176" idx="3"/>
            <a:endCxn id="182" idx="1"/>
          </p:cNvCxnSpPr>
          <p:nvPr/>
        </p:nvCxnSpPr>
        <p:spPr>
          <a:xfrm>
            <a:off x="2259000" y="4037040"/>
            <a:ext cx="813600" cy="7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2" name="Straight Arrow Connector 31"/>
          <p:cNvCxnSpPr>
            <a:stCxn id="176" idx="3"/>
            <a:endCxn id="183" idx="1"/>
          </p:cNvCxnSpPr>
          <p:nvPr/>
        </p:nvCxnSpPr>
        <p:spPr>
          <a:xfrm>
            <a:off x="2259000" y="4037040"/>
            <a:ext cx="813600" cy="20786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45600" y="127944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Metadata Concep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45600" y="2087280"/>
            <a:ext cx="8448840" cy="42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Inode Tab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Inode table contains the inodes that describes the files in the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Inode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Each inode corresponds to one file, and it stores file’s primary metadata, such as file’s size, ownership, and temporal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Inode is typically 128 bytes in size and is allocated to each file and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45600" y="127944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Inode Structu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3" descr=""/>
          <p:cNvPicPr/>
          <p:nvPr/>
        </p:nvPicPr>
        <p:blipFill>
          <a:blip r:embed="rId1"/>
          <a:stretch/>
        </p:blipFill>
        <p:spPr>
          <a:xfrm>
            <a:off x="399960" y="2208240"/>
            <a:ext cx="8374320" cy="432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45600" y="127944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Metadata Concep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345600" y="2125800"/>
            <a:ext cx="8448840" cy="32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Inode Alloc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If a new inode is for a non-directory file, Ext2 allocates an inode in the same block group as the parent directo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If that group has no free inode or block, Ext2 uses a quadratic search (add powers of 2 to the current grou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If quadratic search fails, Ext2 uses linear sear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45600" y="127944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Metadata Concep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45600" y="2087280"/>
            <a:ext cx="8448840" cy="42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Inode Allocation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If a new inode is for a directory, Ext2 tries to place it in a group that has not been used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Using total number of free inodes and blocks in the superblock, Ext2 calculates the average free inodes and blocks per grou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Ext2 searches each of the group and uses the first one whose free inodes and blocks are less than the aver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If the pervious search fails, the group with the smallest number of directories is us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45600" y="127944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Indexing and Directori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380520" y="2072880"/>
            <a:ext cx="8458200" cy="44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An Ext2 is just like a regular file except it has a special type val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The content of directories is a list of directory entry data structure, which describes file name and inode addr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The length of directory entry varies from 1 to 255 by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There are two fields in the directory entr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Name length: the length of the file 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Record length: the length of this directory en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45600" y="127944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Indexing and Directori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345600" y="2087280"/>
            <a:ext cx="8448840" cy="42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Directory entry alloc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Ext2 starts at the beginning of the directory and examines each directory ent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Calculate the actual record length and compare with the record length fiel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If they are different, Ext2 can insert the new directory entry at the end of the current ent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Else, Ext2 appends the new entry to the end of the entry li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45600" y="127944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Journal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45600" y="2087280"/>
            <a:ext cx="8448840" cy="42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A file system journaling records updates to the file system can be recovered after a cras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There are two modes of journaling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Only metadata updates are recor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All updates are recor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Journaling in Ext3 is done at block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The first block in the journal is journal superblock, and it contains the first logging data address and its sequence numb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45600" y="127944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Journal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45600" y="2087280"/>
            <a:ext cx="8448840" cy="42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Updates are done in transactions, and each transaction has a sequence numb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Each transaction starts with a descriptor block that contains the transaction sequence number and a list of what blocks are being upda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Following the descriptor block are the updated bloc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When the updates have been written to disk, a commit block is written with the same sequence numb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45600" y="127944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NTFS Featur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2"/>
          <p:cNvSpPr/>
          <p:nvPr/>
        </p:nvSpPr>
        <p:spPr>
          <a:xfrm>
            <a:off x="243000" y="2303640"/>
            <a:ext cx="86580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ogg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ransaction-ba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ile and folder permis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isk quot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parse points (used to link fil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parse file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ncry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lternate data stre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ANY QUESTIONS ...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45600" y="127944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parse Fil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2"/>
          <p:cNvSpPr/>
          <p:nvPr/>
        </p:nvSpPr>
        <p:spPr>
          <a:xfrm>
            <a:off x="474840" y="2349360"/>
            <a:ext cx="80326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lusters that contain all zeros aren’t written to di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alysis consid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A deleted sparse file is hard to rec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If file system metadata is deleted or corrupted, a sparse file might not be recover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45600" y="127944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File Compress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2"/>
          <p:cNvSpPr/>
          <p:nvPr/>
        </p:nvSpPr>
        <p:spPr>
          <a:xfrm>
            <a:off x="369720" y="2419200"/>
            <a:ext cx="83106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ata is broken into equal-sized compression units (e.g. 16 clust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 attempt is made to compress each un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arts of a file may be compressed while other parts aren’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45600" y="127944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File Compression Analysis Considerati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2"/>
          <p:cNvSpPr/>
          <p:nvPr/>
        </p:nvSpPr>
        <p:spPr>
          <a:xfrm>
            <a:off x="277920" y="2441520"/>
            <a:ext cx="8542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single file can use different compression methods (e.g. none, sparse, or variant of LZ77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covery tools need to support decompre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deleted compressed file is hard to rec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f file system metadata is deleted or corrupted, a compressed file might not be recover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45600" y="127944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crypting File System (EFS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2"/>
          <p:cNvSpPr/>
          <p:nvPr/>
        </p:nvSpPr>
        <p:spPr>
          <a:xfrm>
            <a:off x="324000" y="2511360"/>
            <a:ext cx="84852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es both symmetric key encryption (DESX) and asymmetric key encryption (RS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enerates a single file encryption key (FEK) and encrypts file with FEK using DES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tores FEK with f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3T14:02:06Z</dcterms:created>
  <dc:creator>ML</dc:creator>
  <dc:description/>
  <dc:language>en-US</dc:language>
  <cp:lastModifiedBy>Ludwiniak, Robert</cp:lastModifiedBy>
  <cp:lastPrinted>2012-03-05T15:05:56Z</cp:lastPrinted>
  <dcterms:modified xsi:type="dcterms:W3CDTF">2012-03-12T16:47:34Z</dcterms:modified>
  <cp:revision>179</cp:revision>
  <dc:subject/>
  <dc:title>Powerpoint 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">
    <vt:lpwstr>Edinburgh Napier Word document</vt:lpwstr>
  </property>
  <property fmtid="{D5CDD505-2E9C-101B-9397-08002B2CF9AE}" pid="3" name="Document Description">
    <vt:lpwstr>Branded powerpoint template for creating Edinburgh Napier University presentations.</vt:lpwstr>
  </property>
  <property fmtid="{D5CDD505-2E9C-101B-9397-08002B2CF9AE}" pid="4" name="DocumentKeywords">
    <vt:lpwstr>branded, presentations, template, powerpoint, ppt</vt:lpwstr>
  </property>
</Properties>
</file>