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1B6B-2EC1-4394-8AE1-13B1F309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DB4-E817-4A5E-AFF8-CD84ECDB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DC4-FB0D-48AC-BC54-307962A8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AD7-75DB-4373-8E91-64F8BF3E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157A-FBCE-4E1D-8A91-A97B35EE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49DC-99CC-4830-82A1-A35C5723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8E5-0C70-4EAF-966F-27FF311A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000-37A6-4056-B226-30CE7CF3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A9A-FBE4-4551-AD64-4B2E4A02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FCC-3117-48C1-B074-50D8B8A8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040D-6059-415E-A89C-B00EE02B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264-74BF-4DBB-8688-4B348961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4193-7D5D-459E-8E9D-5680E3DD8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起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ndWindow(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がい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既存の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YDATASTRUCT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コマンドラインを送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1371600" y="18288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371600" y="8380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914400" y="304812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6" idx="0"/>
          </p:cNvCxnSpPr>
          <p:nvPr/>
        </p:nvCxnSpPr>
        <p:spPr>
          <a:xfrm>
            <a:off x="1371600" y="2666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993240" y="181296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2952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初期化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（ウィンドウ、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X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9" idx="1"/>
          </p:cNvCxnSpPr>
          <p:nvPr/>
        </p:nvCxnSpPr>
        <p:spPr>
          <a:xfrm flipV="1">
            <a:off x="2209680" y="1523880"/>
            <a:ext cx="5338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176560" y="12794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1337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M_COPY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受信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2" idx="0"/>
          </p:cNvCxnSpPr>
          <p:nvPr/>
        </p:nvCxnSpPr>
        <p:spPr>
          <a:xfrm>
            <a:off x="3429000" y="17524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進行・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2"/>
            <a:endCxn id="54" idx="0"/>
          </p:cNvCxnSpPr>
          <p:nvPr/>
        </p:nvCxnSpPr>
        <p:spPr>
          <a:xfrm>
            <a:off x="3429000" y="27432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125880" y="27432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メッセージを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3640" y="220968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1"/>
            <a:endCxn id="54" idx="3"/>
          </p:cNvCxnSpPr>
          <p:nvPr/>
        </p:nvCxnSpPr>
        <p:spPr>
          <a:xfrm rot="10800000">
            <a:off x="4114440" y="3352680"/>
            <a:ext cx="6098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57" idx="0"/>
          </p:cNvCxnSpPr>
          <p:nvPr/>
        </p:nvCxnSpPr>
        <p:spPr>
          <a:xfrm>
            <a:off x="4267080" y="2438640"/>
            <a:ext cx="1143360" cy="68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2" idx="1"/>
          </p:cNvCxnSpPr>
          <p:nvPr/>
        </p:nvCxnSpPr>
        <p:spPr>
          <a:xfrm flipV="1" rot="16200000">
            <a:off x="2438640" y="2590920"/>
            <a:ext cx="1143000" cy="838440"/>
          </a:xfrm>
          <a:prstGeom prst="bentConnector4">
            <a:avLst>
              <a:gd name="adj1" fmla="val -20258"/>
              <a:gd name="adj2" fmla="val 1287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19320" y="838080"/>
          <a:ext cx="65070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070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0:30:47Z</dcterms:created>
  <dc:creator>山崎 顕治</dc:creator>
  <dc:description/>
  <dc:language>en-US</dc:language>
  <cp:lastModifiedBy>山崎 顕治</cp:lastModifiedBy>
  <dcterms:modified xsi:type="dcterms:W3CDTF">2004-01-11T18:15:04Z</dcterms:modified>
  <cp:revision>3</cp:revision>
  <dc:subject/>
  <dc:title>PowerPoint プレゼンテーション</dc:title>
</cp:coreProperties>
</file>