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7DD8-F63C-4590-B241-98D65B705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5B24-4B86-49A6-8FFF-26D3BAFE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245B-2F8B-41A8-835C-61D3CB625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8D1E-39CB-4025-AD83-F1F1BE063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7E7C-31F0-476F-BCEF-4DF1D648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FF51-A6F5-4B7E-A33C-8D09F964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BE9B-52E1-4854-80D1-09C04565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F40E-92E6-4DAB-96BC-60FDA5F5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FF46-F5C3-4B30-BDB1-4D8574F0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609A-0BDF-4B12-BCBA-F51E918C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FF5D-2A71-4619-8F47-D044C893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0C35-FF98-4C84-9037-F39106EB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EE80-0A22-4FC9-9197-D3635F342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67280" cy="443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572000"/>
            <a:ext cx="3657600" cy="4572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0292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334120"/>
            <a:ext cx="35049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400800" cy="136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590920"/>
            <a:ext cx="609840" cy="53316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312408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3505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90680" y="1909800"/>
            <a:ext cx="636264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2209680"/>
            <a:ext cx="5029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ファイル属性の確認。アーカイブ属性のみ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8195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読み取り専用属性と隠しファイル属性を付加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7339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隠しファイル属性を外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たかはしもとのぶ</cp:lastModifiedBy>
  <dcterms:modified xsi:type="dcterms:W3CDTF">2006-05-05T05:21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