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0682-671D-4BB3-9FE5-CB4C7C283B6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370F-F9EC-4F24-A27F-526CAAB5DB1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8:54Z</dcterms:modified>
  <cp:revision>52</cp:revision>
  <dc:subject/>
  <dc:title>スライド 1</dc:title>
</cp:coreProperties>
</file>