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E7F5-7755-46EC-8E15-7158CEA3785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91A-1D06-4CA2-98CA-37056C3DA0B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29T02:37:19Z</dcterms:modified>
  <cp:revision>116</cp:revision>
  <dc:subject/>
  <dc:title>スライド 1</dc:title>
</cp:coreProperties>
</file>