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949E-0273-43E1-B47F-802B292813C2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52A8-9BD7-4A0D-B921-DE32D24FB964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Kvasir/Sora 3</a:t>
            </a:r>
            <a:br>
              <a:rPr sz="4400"/>
            </a:b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Pluggable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なアプリケーションコンテ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横田　健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プラグインで拡張可能なアプリケーションコンテ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いろいろなプラグインを組み合わせてオリジナル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イトを簡単に構築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使ってみて、次にプラグインを書いてみていただければうれしいで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なるべく早くリリースできるよう頑張ります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m( )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横田　健彦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kirni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かりにくいハンドルですいません、「スキールニル」と読み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イト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kvasir.skirnir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 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構築してい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住まい：東京都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北の方で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特徴：北欧神話フリーク、阪神ファ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仲間募集中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（クヴァシル・そら）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ブレットベースのコンテンツ管理システ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ちょっぴり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Zop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風（管理画面はかなり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Zop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カスタマイズの自由度高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ブログなどのアプリケーションも追加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名前の由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vasir=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開発機の名前、北欧神話の神様の名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ora=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息子の名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問題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覚えづら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独自仕様が多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ンテナンスしづら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ップグレードしづら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次世代版（バージョン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ttp://kvasir.sandbox.seasar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アプリケーションプラットフォー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プリケーションとしてサーブレットコンテナ上で動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ライクなプラグインアーキテクチャを採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機能追加が容易、ブログアプリプラグイン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覚えやすい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→プラグイン作成手順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プラグイン作成手順とかなり類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メンテナンスしやすい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→プラグインのアップグレードも簡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ベ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ラグインの開発効率向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った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宅サイトを構築したかっ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Zop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だったら作ってなかった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^^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った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より使いやすいシステムにしたかっ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誰でも覚えやすく使いやすいシステムを目指し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あわよくばプラグインを作ってもらえたら助かる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プラグインアーキテクチャに感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っぽ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M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あったら楽しそ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ラグイン定義ファイル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lugin.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905120"/>
            <a:ext cx="8076960" cy="4343400"/>
          </a:xfrm>
          <a:prstGeom prst="rect">
            <a:avLst/>
          </a:prstGeom>
          <a:solidFill>
            <a:srgbClr val="ccff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?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plugin id="net.seasar.kvasir.plugin.blog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ame="%plugin.name“ version=“1.0.0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rovider-name="%plugin.provider-name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lass="net.seasar.kvasir.plugin.blog.BlogPlugin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ntainer config="plugin.dicon"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run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library name="conf"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library name=“blog-1.0.0.jar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/run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require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import plugin="net.seasar.kvasir.plugin.page"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/require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2133720"/>
            <a:ext cx="1828800" cy="99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基本的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定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3505320"/>
            <a:ext cx="36576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プラグイン用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の定義ファイ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114800"/>
            <a:ext cx="365760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利用ライブラリ・リソー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05720" y="5105520"/>
            <a:ext cx="1752480" cy="838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依存プラグイ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デモンストレ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まだ動きません…。プラグインできてません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近日中に基本部を完成させ今後ブログプラグイン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M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を開発予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3124080"/>
            <a:ext cx="4076640" cy="3310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0384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イト構築例（雰囲気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5410080"/>
            <a:ext cx="761976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8000"/>
                </a:solidFill>
                <a:latin typeface="Arial"/>
              </a:rPr>
              <a:t>Kvasir/S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6880" y="4191120"/>
            <a:ext cx="1905120" cy="1218960"/>
          </a:xfrm>
          <a:prstGeom prst="rect">
            <a:avLst/>
          </a:prstGeom>
          <a:solidFill>
            <a:srgbClr val="00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掲示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91120"/>
            <a:ext cx="1904760" cy="1218960"/>
          </a:xfrm>
          <a:prstGeom prst="rect">
            <a:avLst/>
          </a:prstGeom>
          <a:solidFill>
            <a:srgbClr val="00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4191120"/>
            <a:ext cx="190512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ユーザ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4191120"/>
            <a:ext cx="190476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00280" y="15238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ブログを設置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47080" y="19810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掲示板を設置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23120" y="243828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会員制掲示板も設置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18960" y="2895480"/>
            <a:ext cx="50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イトの見た目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y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ンプレートで記述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50600" y="1066680"/>
            <a:ext cx="40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まず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インストー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56560" y="342900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3300"/>
                </a:solidFill>
                <a:latin typeface="Arial"/>
              </a:rPr>
              <a:t>プラグインの追加で自由に拡張可能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使ってみてフィードバックを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ラグインを作って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系プラグインのデザインを考えて下さい、アイコン作って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チュートリアルドキュメント書いて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、お願いは尽きませんが、まずは興味を持っていただければうれしいで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羽生　章洋</dc:creator>
  <dc:description/>
  <dc:language>en-US</dc:language>
  <cp:lastModifiedBy>羽生　章洋</cp:lastModifiedBy>
  <dcterms:modified xsi:type="dcterms:W3CDTF">2005-07-13T07:44:21Z</dcterms:modified>
  <cp:revision>575</cp:revision>
  <dc:subject/>
  <dc:title>くーす本の内容を先取り！ DI時代の業務システム構築技法 ～業務分析からシステム設計・開発までを一気に突っ走る～</dc:title>
</cp:coreProperties>
</file>