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31AB-EB25-4B5A-8257-02ACA222DBAE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0F56-F1E7-40B1-96D7-DACC645DCA1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Kestre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skimur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わってい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ダク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所属会社：リコーソフトウエア（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MM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のレベ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達成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ricoh-soft.co.j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s2kestrel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は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2.2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ＡＰＩに依存しないように修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規表現のＡＰＩ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ちろん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tT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全て通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は、ほぼ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どがバージョン落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コード名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es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語訳では、チョウゲンボウ（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案件にて、ＪＶＭのバージョン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使えない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も、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方が断然開発がスムー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(2.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ssist(2.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ッタになると良い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然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アのコードを読む機会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可能性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Satoshi Kimura</dc:creator>
  <dc:description/>
  <dc:language>en-US</dc:language>
  <cp:lastModifiedBy>羽生　章洋</cp:lastModifiedBy>
  <dcterms:modified xsi:type="dcterms:W3CDTF">2005-07-14T02:58:39Z</dcterms:modified>
  <cp:revision>624</cp:revision>
  <dc:subject/>
  <dc:title>S2Kestrel ～J2SE1.3用のS2Container</dc:title>
</cp:coreProperties>
</file>